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7.png" ContentType="image/png"/>
  <Override PartName="/ppt/media/image28.png" ContentType="image/png"/>
  <Override PartName="/ppt/media/image30.png" ContentType="image/png"/>
  <Override PartName="/ppt/media/image33.png" ContentType="image/png"/>
  <Override PartName="/ppt/media/image36.png" ContentType="image/png"/>
  <Override PartName="/ppt/media/image8.wmf" ContentType="image/x-wmf"/>
  <Override PartName="/ppt/media/image48.png" ContentType="image/png"/>
  <Override PartName="/ppt/media/image9.jpeg" ContentType="image/jpeg"/>
  <Override PartName="/ppt/media/image38.png" ContentType="image/png"/>
  <Override PartName="/ppt/media/image39.jpeg" ContentType="image/jpeg"/>
  <Override PartName="/ppt/media/image45.jpeg" ContentType="image/jpeg"/>
  <Override PartName="/ppt/media/image41.png" ContentType="image/png"/>
  <Override PartName="/ppt/media/image43.png" ContentType="image/png"/>
  <Override PartName="/ppt/media/image3.wmf" ContentType="image/x-wmf"/>
  <Override PartName="/ppt/media/image34.jpeg" ContentType="image/jpeg"/>
  <Override PartName="/ppt/media/image37.png" ContentType="image/png"/>
  <Override PartName="/ppt/media/image44.jpeg" ContentType="image/jpeg"/>
  <Override PartName="/ppt/media/image46.png" ContentType="image/png"/>
  <Override PartName="/ppt/media/image6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7.wmf" ContentType="image/x-wmf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5.png" ContentType="image/png"/>
  <Override PartName="/ppt/media/image3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6B5-952D-4A4C-8D82-16A17A2CA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07A-B82B-4065-AF0A-D93E77C4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814-E7E6-4C16-843B-56ED4B97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T traveled to Bernheim Forest and to abandoned mi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in southeastern Kentucky to produce these short vide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Bernheim we took a tour of the visitor’s center, a LE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ed green structure especially designed to conserve wat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examined the Cypress Tupelo swamp they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and a stream restoration site. At the mine sites, w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iewed scientists about the problems associated with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 drainage and the efforts they are making to resolve th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6AA-9656-4169-89E2-0092D356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4F1-C3CD-4459-A77D-81F4D521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951-E135-4951-91EE-C9CDDF1DC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42FF-6A22-4929-81D9-FC2795EE9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EA75-A441-4053-8130-3E1C53C7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2F2-3489-4A73-A9AF-6EB1B7B8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6123-ED60-4883-9214-80491D89B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BB4D-BE57-4CA6-823A-9F4E0E3F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E11-CA1B-424E-98C4-8A9407B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16E-9F8A-4BFC-AC1A-43BC5DFF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CF2A-252C-424D-B11C-C39F8CDA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8B1A-0CF7-44F6-BCD8-87A8AAFA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2E30-F016-4DCF-A75F-7D4BF2A1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B1A1-64E1-435C-BC89-C7DE1103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616C-1A23-40A4-9F88-5028658B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625E-1931-45D3-88E2-78D60CC6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2D1A-596C-4FE2-9FFF-DF62380F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8264-62BF-4146-AA79-5337FFA7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755D-5B32-4BD2-8DC1-7CB1693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AFF-4594-4B70-8806-BF14DAA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14E3-AE60-4EBF-A7A8-B89E7F0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00F1-46EB-45D5-8F15-B7E8F869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2E4D-1226-437B-BF1F-01AE012D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8E74-117F-4F4A-8F41-9EBD3D07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DB6E-B945-4D62-8384-E0B99202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E1C-7ABE-4657-9555-D459D017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3869-DFF4-4FDB-B5AD-8992BBF6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B4DEB-CA73-47FC-A17D-06CC506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7B88-689E-488E-BE34-DADFA1C6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A6E-4B8E-41BF-852B-091BE22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4C86-BA41-49A9-9D50-C420D08E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6B5A-30D6-42C2-9DDE-2F0A4596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7E2D-AD0C-4BEB-836B-FB51381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A44D-3525-4B71-B467-C5D644BC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F401-3A49-4234-A00E-EA65E204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6ED9-B3C9-4165-9AF5-F38647AB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4CF8-965B-4D55-B05B-7B3C45F2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35E77-A84F-4B7E-8CDC-D399EB4B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1BF2-AE3B-45F6-B63D-C26770DF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D77-BAFB-4F40-B093-C6F53AB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16A-51B3-45B8-99BB-53101A08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6D6-2E8D-4148-845C-567B779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13B-F212-4B3F-8883-27B66E0A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B09-7F28-41E5-9677-4F1D9CE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B836-98E3-44CF-B305-CA9673FF8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574-508B-4745-806E-F403D340B6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5DEB-78E9-42AA-A5EB-86285800D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education" TargetMode="External"/><Relationship Id="rId2" Type="http://schemas.openxmlformats.org/officeDocument/2006/relationships/slide" Target="slide9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hyperlink" Target="http://www.ket.org/trips" TargetMode="External"/><Relationship Id="rId13" Type="http://schemas.openxmlformats.org/officeDocument/2006/relationships/hyperlink" Target="http://www.ket.org/newsquiz" TargetMode="External"/><Relationship Id="rId14" Type="http://schemas.openxmlformats.org/officeDocument/2006/relationships/hyperlink" Target="http://www.ket.org/lincoln" TargetMode="External"/><Relationship Id="rId15" Type="http://schemas.openxmlformats.org/officeDocument/2006/relationships/hyperlink" Target="http://www.ket.org/nationalparks" TargetMode="External"/><Relationship Id="rId16" Type="http://schemas.openxmlformats.org/officeDocument/2006/relationships/hyperlink" Target="http://www.ket.org/arts" TargetMode="External"/><Relationship Id="rId17" Type="http://schemas.openxmlformats.org/officeDocument/2006/relationships/hyperlink" Target="http://www.ket.org/educationmatters" TargetMode="External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alecity.org/" TargetMode="External"/><Relationship Id="rId2" Type="http://schemas.openxmlformats.org/officeDocument/2006/relationships/image" Target="../media/image23.jpeg"/><Relationship Id="rId3" Type="http://schemas.openxmlformats.org/officeDocument/2006/relationships/slide" Target="slide10.xm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newsquiz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missionshortlmabbrev.ppt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ket.org/missionus" TargetMode="External"/><Relationship Id="rId4" Type="http://schemas.openxmlformats.org/officeDocument/2006/relationships/slide" Target="slide6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itunes.apple.com/us/institution/kentucky/id411806090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ket.org/education" TargetMode="External"/><Relationship Id="rId3" Type="http://schemas.openxmlformats.org/officeDocument/2006/relationships/hyperlink" Target="http://www.ket.org/education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The KET’s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638600" y="874440"/>
            <a:ext cx="3738600" cy="27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Specialized KET Instructional Websites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educa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Electronic Field Trips: www.ket.org/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Quiz: http://www.ket.org/news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coln “ I Too am a Kentuckian”:  http://www.ket.org/lincol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tucky’s National Parks: http://www.ket.org/nationalpark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Arts Page: http://www.ket.org/art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Matters: http://www.ket.org/educationmatt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28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361960" cy="121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7"/>
          <a:stretch/>
        </p:blipFill>
        <p:spPr>
          <a:xfrm>
            <a:off x="457200" y="5486400"/>
            <a:ext cx="22622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8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9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10"/>
          <a:stretch/>
        </p:blipFill>
        <p:spPr>
          <a:xfrm>
            <a:off x="3048120" y="54864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"/>
          <p:cNvPicPr/>
          <p:nvPr/>
        </p:nvPicPr>
        <p:blipFill>
          <a:blip r:embed="rId11"/>
          <a:stretch/>
        </p:blipFill>
        <p:spPr>
          <a:xfrm>
            <a:off x="5715000" y="5486400"/>
            <a:ext cx="2362320" cy="1143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15"/>
          <p:cNvSpPr/>
          <p:nvPr/>
        </p:nvSpPr>
        <p:spPr>
          <a:xfrm>
            <a:off x="57913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Arts on KE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ction Button: Custom 16">
            <a:hlinkClick r:id="rId12"/>
          </p:cNvPr>
          <p:cNvSpPr/>
          <p:nvPr/>
        </p:nvSpPr>
        <p:spPr>
          <a:xfrm>
            <a:off x="3581280" y="175248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3" name="Action Button: Custom 17">
            <a:hlinkClick r:id="rId13"/>
          </p:cNvPr>
          <p:cNvSpPr/>
          <p:nvPr/>
        </p:nvSpPr>
        <p:spPr>
          <a:xfrm>
            <a:off x="2362320" y="2133720"/>
            <a:ext cx="3047760" cy="30456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5923" h="21600">
                <a:moveTo>
                  <a:pt x="0" y="0"/>
                </a:moveTo>
                <a:lnTo>
                  <a:pt x="215923" y="0"/>
                </a:lnTo>
                <a:lnTo>
                  <a:pt x="215923" y="21600"/>
                </a:lnTo>
                <a:lnTo>
                  <a:pt x="0" y="21600"/>
                </a:lnTo>
                <a:close/>
              </a:path>
              <a:path fill="lightenLess" w="215923" h="21600">
                <a:moveTo>
                  <a:pt x="0" y="0"/>
                </a:moveTo>
                <a:lnTo>
                  <a:pt x="215923" y="0"/>
                </a:lnTo>
                <a:lnTo>
                  <a:pt x="214524" y="1400"/>
                </a:lnTo>
                <a:lnTo>
                  <a:pt x="1400" y="1400"/>
                </a:lnTo>
                <a:close/>
              </a:path>
              <a:path fill="darken" w="215923" h="21600">
                <a:moveTo>
                  <a:pt x="215923" y="0"/>
                </a:moveTo>
                <a:lnTo>
                  <a:pt x="215923" y="21600"/>
                </a:lnTo>
                <a:lnTo>
                  <a:pt x="214524" y="20200"/>
                </a:lnTo>
                <a:lnTo>
                  <a:pt x="214524" y="1400"/>
                </a:lnTo>
                <a:close/>
              </a:path>
              <a:path fill="darkenLess" w="215923" h="21600">
                <a:moveTo>
                  <a:pt x="215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24" y="20200"/>
                </a:lnTo>
                <a:close/>
              </a:path>
              <a:path fill="lighten" w="215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Action Button: Custom 18">
            <a:hlinkClick r:id="rId14"/>
          </p:cNvPr>
          <p:cNvSpPr/>
          <p:nvPr/>
        </p:nvSpPr>
        <p:spPr>
          <a:xfrm>
            <a:off x="4419720" y="25146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Action Button: Custom 19">
            <a:hlinkClick r:id="rId15"/>
          </p:cNvPr>
          <p:cNvSpPr/>
          <p:nvPr/>
        </p:nvSpPr>
        <p:spPr>
          <a:xfrm>
            <a:off x="3657600" y="2895480"/>
            <a:ext cx="3657600" cy="228600"/>
          </a:xfrm>
          <a:custGeom>
            <a:avLst/>
            <a:gdLst>
              <a:gd name="textAreaLeft" fmla="*/ 14760 w 3657600"/>
              <a:gd name="textAreaRight" fmla="*/ 3642840 w 365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91" h="21600">
                <a:moveTo>
                  <a:pt x="0" y="0"/>
                </a:moveTo>
                <a:lnTo>
                  <a:pt x="345091" y="0"/>
                </a:lnTo>
                <a:lnTo>
                  <a:pt x="345091" y="21600"/>
                </a:lnTo>
                <a:lnTo>
                  <a:pt x="0" y="21600"/>
                </a:lnTo>
                <a:close/>
              </a:path>
              <a:path fill="lightenLess" w="345091" h="21600">
                <a:moveTo>
                  <a:pt x="0" y="0"/>
                </a:moveTo>
                <a:lnTo>
                  <a:pt x="345091" y="0"/>
                </a:lnTo>
                <a:lnTo>
                  <a:pt x="343691" y="1400"/>
                </a:lnTo>
                <a:lnTo>
                  <a:pt x="1400" y="1400"/>
                </a:lnTo>
                <a:close/>
              </a:path>
              <a:path fill="darken" w="345091" h="21600">
                <a:moveTo>
                  <a:pt x="345091" y="0"/>
                </a:moveTo>
                <a:lnTo>
                  <a:pt x="345091" y="21600"/>
                </a:lnTo>
                <a:lnTo>
                  <a:pt x="343691" y="20200"/>
                </a:lnTo>
                <a:lnTo>
                  <a:pt x="343691" y="1400"/>
                </a:lnTo>
                <a:close/>
              </a:path>
              <a:path fill="darkenLess" w="345091" h="21600">
                <a:moveTo>
                  <a:pt x="345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91" y="20200"/>
                </a:lnTo>
                <a:close/>
              </a:path>
              <a:path fill="lighten" w="345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Action Button: Custom 20">
            <a:hlinkClick r:id="rId16"/>
          </p:cNvPr>
          <p:cNvSpPr/>
          <p:nvPr/>
        </p:nvSpPr>
        <p:spPr>
          <a:xfrm>
            <a:off x="2362320" y="32004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Action Button: Custom 21">
            <a:hlinkClick r:id="rId17"/>
          </p:cNvPr>
          <p:cNvSpPr/>
          <p:nvPr/>
        </p:nvSpPr>
        <p:spPr>
          <a:xfrm>
            <a:off x="2743200" y="3581280"/>
            <a:ext cx="4191120" cy="228600"/>
          </a:xfrm>
          <a:custGeom>
            <a:avLst/>
            <a:gdLst>
              <a:gd name="textAreaLeft" fmla="*/ 14760 w 4191120"/>
              <a:gd name="textAreaRight" fmla="*/ 4176360 w 4191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5423" h="21600">
                <a:moveTo>
                  <a:pt x="0" y="0"/>
                </a:moveTo>
                <a:lnTo>
                  <a:pt x="395423" y="0"/>
                </a:lnTo>
                <a:lnTo>
                  <a:pt x="395423" y="21600"/>
                </a:lnTo>
                <a:lnTo>
                  <a:pt x="0" y="21600"/>
                </a:lnTo>
                <a:close/>
              </a:path>
              <a:path fill="lightenLess" w="395423" h="21600">
                <a:moveTo>
                  <a:pt x="0" y="0"/>
                </a:moveTo>
                <a:lnTo>
                  <a:pt x="395423" y="0"/>
                </a:lnTo>
                <a:lnTo>
                  <a:pt x="394023" y="1400"/>
                </a:lnTo>
                <a:lnTo>
                  <a:pt x="1400" y="1400"/>
                </a:lnTo>
                <a:close/>
              </a:path>
              <a:path fill="darken" w="395423" h="21600">
                <a:moveTo>
                  <a:pt x="395423" y="0"/>
                </a:moveTo>
                <a:lnTo>
                  <a:pt x="395423" y="21600"/>
                </a:lnTo>
                <a:lnTo>
                  <a:pt x="394023" y="20200"/>
                </a:lnTo>
                <a:lnTo>
                  <a:pt x="394023" y="1400"/>
                </a:lnTo>
                <a:close/>
              </a:path>
              <a:path fill="darkenLess" w="395423" h="21600">
                <a:moveTo>
                  <a:pt x="395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3" y="20200"/>
                </a:lnTo>
                <a:close/>
              </a:path>
              <a:path fill="lighten" w="395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Scale City: The Road to Proportional Reasoning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scalecity.or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irtual tour of Kentucky sites related to the mathematics of scale, from Dinosaur World to the big bat at the Louisville Slugger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actives to help middle school students explore and practice mathematics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on plans, classroom handouts, assessments, resources, and vocabul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vailable free to Kentucky schools on CD-ROM or 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now an accompanying PD module  entitled :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ing Scale City to Teach Proportional Reas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4" descr="scalecity.jpg"/>
          <p:cNvPicPr/>
          <p:nvPr/>
        </p:nvPicPr>
        <p:blipFill>
          <a:blip r:embed="rId2"/>
          <a:stretch/>
        </p:blipFill>
        <p:spPr>
          <a:xfrm>
            <a:off x="4737240" y="2357280"/>
            <a:ext cx="4101840" cy="2595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link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ws Quiz</a:t>
            </a:r>
            <a:br>
              <a:rPr sz="44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newsquiz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ET’s weekly 15-minute current ev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am for grades 4-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4038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segments, current events quiz, and student opinion ques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stream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wnlo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clicker quiz provided for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quizlogo"/>
          <p:cNvPicPr/>
          <p:nvPr/>
        </p:nvPicPr>
        <p:blipFill>
          <a:blip r:embed="rId2"/>
          <a:stretch/>
        </p:blipFill>
        <p:spPr>
          <a:xfrm>
            <a:off x="4419720" y="2514600"/>
            <a:ext cx="4114800" cy="27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Social Studies Resour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ssion US: For Crown or Colony (Gr. 5-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Action Button: Custom 5">
            <a:hlinkClick r:id="rId3"/>
          </p:cNvPr>
          <p:cNvSpPr/>
          <p:nvPr/>
        </p:nvSpPr>
        <p:spPr>
          <a:xfrm>
            <a:off x="152280" y="2514600"/>
            <a:ext cx="2514600" cy="1447920"/>
          </a:xfrm>
          <a:custGeom>
            <a:avLst/>
            <a:gdLst>
              <a:gd name="textAreaLeft" fmla="*/ 93600 w 2514600"/>
              <a:gd name="textAreaRight" fmla="*/ 2421000 w 25146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37509" h="21600">
                <a:moveTo>
                  <a:pt x="0" y="0"/>
                </a:moveTo>
                <a:lnTo>
                  <a:pt x="37509" y="0"/>
                </a:lnTo>
                <a:lnTo>
                  <a:pt x="37509" y="21600"/>
                </a:lnTo>
                <a:lnTo>
                  <a:pt x="0" y="21600"/>
                </a:lnTo>
                <a:close/>
              </a:path>
              <a:path fill="lightenLess" w="37509" h="21600">
                <a:moveTo>
                  <a:pt x="0" y="0"/>
                </a:moveTo>
                <a:lnTo>
                  <a:pt x="37509" y="0"/>
                </a:lnTo>
                <a:lnTo>
                  <a:pt x="36109" y="1400"/>
                </a:lnTo>
                <a:lnTo>
                  <a:pt x="1400" y="1400"/>
                </a:lnTo>
                <a:close/>
              </a:path>
              <a:path fill="darken" w="37509" h="21600">
                <a:moveTo>
                  <a:pt x="37509" y="0"/>
                </a:moveTo>
                <a:lnTo>
                  <a:pt x="37509" y="21600"/>
                </a:lnTo>
                <a:lnTo>
                  <a:pt x="36109" y="20200"/>
                </a:lnTo>
                <a:lnTo>
                  <a:pt x="36109" y="1400"/>
                </a:lnTo>
                <a:close/>
              </a:path>
              <a:path fill="darkenLess" w="37509" h="21600">
                <a:moveTo>
                  <a:pt x="37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09" y="20200"/>
                </a:lnTo>
                <a:close/>
              </a:path>
              <a:path fill="lighten" w="37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8" name="Picture 7" descr="link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6172200"/>
            <a:ext cx="493560" cy="4269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6"/>
          <p:cNvSpPr/>
          <p:nvPr/>
        </p:nvSpPr>
        <p:spPr>
          <a:xfrm>
            <a:off x="304920" y="2895480"/>
            <a:ext cx="2209680" cy="52020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e3e5c"/>
                </a:solidFill>
                <a:uFillTx/>
                <a:latin typeface="Baskerville Old Face"/>
              </a:rPr>
              <a:t>www.ket.org/missionus/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685800" y="633564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http://itunes.apple.com/us/institution/kentucky/id411806090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82548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3"/>
          <p:cNvSpPr/>
          <p:nvPr/>
        </p:nvSpPr>
        <p:spPr>
          <a:xfrm>
            <a:off x="228600" y="11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entucky iTunes U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Action Button: Custom 4">
            <a:hlinkClick r:id="rId2"/>
          </p:cNvPr>
          <p:cNvSpPr/>
          <p:nvPr/>
        </p:nvSpPr>
        <p:spPr>
          <a:xfrm>
            <a:off x="685800" y="6324480"/>
            <a:ext cx="7543800" cy="473040"/>
          </a:xfrm>
          <a:custGeom>
            <a:avLst/>
            <a:gdLst>
              <a:gd name="textAreaLeft" fmla="*/ 30600 w 7543800"/>
              <a:gd name="textAreaRight" fmla="*/ 7513200 w 7543800"/>
              <a:gd name="textAreaTop" fmla="*/ 30600 h 473040"/>
              <a:gd name="textAreaBottom" fmla="*/ 442440 h 473040"/>
            </a:gdLst>
            <a:ahLst/>
            <a:rect l="textAreaLeft" t="textAreaTop" r="textAreaRight" b="textAreaBottom"/>
            <a:pathLst>
              <a:path w="344220" h="21600">
                <a:moveTo>
                  <a:pt x="0" y="0"/>
                </a:moveTo>
                <a:lnTo>
                  <a:pt x="344220" y="0"/>
                </a:lnTo>
                <a:lnTo>
                  <a:pt x="344220" y="21600"/>
                </a:lnTo>
                <a:lnTo>
                  <a:pt x="0" y="21600"/>
                </a:lnTo>
                <a:close/>
              </a:path>
              <a:path fill="lightenLess" w="344220" h="21600">
                <a:moveTo>
                  <a:pt x="0" y="0"/>
                </a:moveTo>
                <a:lnTo>
                  <a:pt x="344220" y="0"/>
                </a:lnTo>
                <a:lnTo>
                  <a:pt x="342820" y="1400"/>
                </a:lnTo>
                <a:lnTo>
                  <a:pt x="1400" y="1400"/>
                </a:lnTo>
                <a:close/>
              </a:path>
              <a:path fill="darken" w="344220" h="21600">
                <a:moveTo>
                  <a:pt x="344220" y="0"/>
                </a:moveTo>
                <a:lnTo>
                  <a:pt x="344220" y="21600"/>
                </a:lnTo>
                <a:lnTo>
                  <a:pt x="342820" y="20200"/>
                </a:lnTo>
                <a:lnTo>
                  <a:pt x="342820" y="1400"/>
                </a:lnTo>
                <a:close/>
              </a:path>
              <a:path fill="darkenLess" w="344220" h="21600">
                <a:moveTo>
                  <a:pt x="344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820" y="20200"/>
                </a:lnTo>
                <a:close/>
              </a:path>
              <a:path fill="lighten" w="344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Action Button: Custom 5">
            <a:hlinkClick r:id="rId3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8" name="Action Button: Custom 6">
            <a:hlinkClick r:id="rId4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Action Button: Custom 7">
            <a:hlinkClick r:id="rId5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and professional development resources created by KET, WGBH-Boston, and other PBS and national produc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ing Education in Kentucky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s of Highly Effectiv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Solu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1032" descr="Screen shot 2011-05-02 at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057400"/>
            <a:ext cx="4495680" cy="754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3" descr="Screen shot 2011-05-02 at 9"/>
          <p:cNvPicPr/>
          <p:nvPr/>
        </p:nvPicPr>
        <p:blipFill>
          <a:blip r:embed="rId3"/>
          <a:stretch/>
        </p:blipFill>
        <p:spPr>
          <a:xfrm>
            <a:off x="7804080" y="3048120"/>
            <a:ext cx="1111320" cy="3352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34" descr="Screen shot 2011-05-01 at 5"/>
          <p:cNvPicPr/>
          <p:nvPr/>
        </p:nvPicPr>
        <p:blipFill>
          <a:blip r:embed="rId4"/>
          <a:stretch/>
        </p:blipFill>
        <p:spPr>
          <a:xfrm>
            <a:off x="4984920" y="3200400"/>
            <a:ext cx="2641320" cy="1468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35" descr="Screen shot 2011-05-01 at 5"/>
          <p:cNvPicPr/>
          <p:nvPr/>
        </p:nvPicPr>
        <p:blipFill>
          <a:blip r:embed="rId5"/>
          <a:stretch/>
        </p:blipFill>
        <p:spPr>
          <a:xfrm>
            <a:off x="4984920" y="4800600"/>
            <a:ext cx="2666880" cy="150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Solu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1911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ef online video collections 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oint-source water pol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Forest (Grades 4-12)</a:t>
            </a:r>
            <a:br>
              <a:rPr sz="1800"/>
            </a:br>
            <a:br>
              <a:rPr sz="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to the Bernheim Forest Visitor Center, a LEED-certified green structure designed to conserve and protect water, and see a stream restoration site and a Cypress-Tupelo swam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Mine Drainage (Grades 6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t southeastern Kentucky to learn about water pollution from abandoned coal mines and how biologists, hydrologists, chemists, and geologists are reversing its damaging effec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6" descr="vc_fall07_pond"/>
          <p:cNvPicPr/>
          <p:nvPr/>
        </p:nvPicPr>
        <p:blipFill>
          <a:blip r:embed="rId1"/>
          <a:stretch/>
        </p:blipFill>
        <p:spPr>
          <a:xfrm>
            <a:off x="5721480" y="3048120"/>
            <a:ext cx="3039840" cy="2288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vc_interior"/>
          <p:cNvPicPr/>
          <p:nvPr/>
        </p:nvPicPr>
        <p:blipFill>
          <a:blip r:embed="rId2"/>
          <a:stretch/>
        </p:blipFill>
        <p:spPr>
          <a:xfrm>
            <a:off x="5105520" y="129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link.png"/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 Everyday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5560" y="1523880"/>
            <a:ext cx="9118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28600" y="2133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complete information about the resources presented today, go to this website: 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Action Button: Custom 7">
            <a:hlinkClick r:id="rId1"/>
          </p:cNvPr>
          <p:cNvSpPr/>
          <p:nvPr/>
        </p:nvSpPr>
        <p:spPr>
          <a:xfrm>
            <a:off x="228600" y="2057400"/>
            <a:ext cx="7924680" cy="121932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40349" h="21600">
                <a:moveTo>
                  <a:pt x="0" y="0"/>
                </a:moveTo>
                <a:lnTo>
                  <a:pt x="140349" y="0"/>
                </a:lnTo>
                <a:lnTo>
                  <a:pt x="140349" y="21600"/>
                </a:lnTo>
                <a:lnTo>
                  <a:pt x="0" y="21600"/>
                </a:lnTo>
                <a:close/>
              </a:path>
              <a:path fill="lightenLess" w="140349" h="21600">
                <a:moveTo>
                  <a:pt x="0" y="0"/>
                </a:moveTo>
                <a:lnTo>
                  <a:pt x="140349" y="0"/>
                </a:lnTo>
                <a:lnTo>
                  <a:pt x="138949" y="1400"/>
                </a:lnTo>
                <a:lnTo>
                  <a:pt x="1400" y="1400"/>
                </a:lnTo>
                <a:close/>
              </a:path>
              <a:path fill="darken" w="140349" h="21600">
                <a:moveTo>
                  <a:pt x="140349" y="0"/>
                </a:moveTo>
                <a:lnTo>
                  <a:pt x="140349" y="21600"/>
                </a:lnTo>
                <a:lnTo>
                  <a:pt x="138949" y="20200"/>
                </a:lnTo>
                <a:lnTo>
                  <a:pt x="138949" y="1400"/>
                </a:lnTo>
                <a:close/>
              </a:path>
              <a:path fill="darkenLess" w="140349" h="21600">
                <a:moveTo>
                  <a:pt x="140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49" y="20200"/>
                </a:lnTo>
                <a:close/>
              </a:path>
              <a:path fill="lighten" w="140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2221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The KET’s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18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Into the Boo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722600"/>
            <a:ext cx="4343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to 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multimedia teaching resource designed to enhance reading comprehension for grades 1-4, as well as students’ ability to think and learn across the curriculum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s combine actual classroom footage with dialogue and personal reflection on instructional pract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6" descr="Screen shot 2011-05-02 at 12"/>
          <p:cNvPicPr/>
          <p:nvPr/>
        </p:nvPicPr>
        <p:blipFill>
          <a:blip r:embed="rId1"/>
          <a:stretch/>
        </p:blipFill>
        <p:spPr>
          <a:xfrm>
            <a:off x="4724280" y="2666880"/>
            <a:ext cx="4229280" cy="151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Planet H</a:t>
            </a:r>
            <a:r>
              <a:rPr b="0" i="1" lang="en-US" sz="4400" spc="-1" strike="noStrike" baseline="-4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series for grades 4-9, Six case studies show how young students and professionals are helping to solve the growing problems of widespread overuse and abuse of water, our planet’s</a:t>
            </a:r>
            <a:r>
              <a:rPr b="0" lang="st-Z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recious and limited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face Water: A Day in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of the Rio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ground Aquifer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on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nking Water: Bottle or 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eaning Polluted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ed Up for P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oring H</a:t>
            </a:r>
            <a:r>
              <a:rPr b="0" lang="en-US" sz="1800" spc="-1" strike="noStrike" baseline="-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Ecosystem: Saving Chesapeake B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Lakes: Who Owns the Wat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6" descr="Screen shot 2011-05-02 at 1"/>
          <p:cNvPicPr/>
          <p:nvPr/>
        </p:nvPicPr>
        <p:blipFill>
          <a:blip r:embed="rId1"/>
          <a:stretch/>
        </p:blipFill>
        <p:spPr>
          <a:xfrm>
            <a:off x="5054760" y="2743200"/>
            <a:ext cx="393696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hapes in the World Around Yo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new series takes children Gr.PreK-5 on an exciting hunt for various shapes. Visuals of everyday life and everyday surroundings are shown, allowing the viewer to "find" the shapes. Through computer generated animation, the shapes are "magically" illustr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s, Angles, Circles, Triangles, Rectangles, and Squ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ircles, Ellipses, Cylinders, Prisms, Pyramids, and Quadrilater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030" descr="Screen shot 2011-05-02 at 1"/>
          <p:cNvPicPr/>
          <p:nvPr/>
        </p:nvPicPr>
        <p:blipFill>
          <a:blip r:embed="rId1"/>
          <a:stretch/>
        </p:blipFill>
        <p:spPr>
          <a:xfrm>
            <a:off x="5943600" y="2133720"/>
            <a:ext cx="2349360" cy="327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Cooking with Mat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series for gr. Pre-K-6 follows Chef J and her co-host, Master Chef Soufflé, as they tackle fraction-filled recipes.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Addition and Subtr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Mixed Numb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king Up Fractions: Multiplication and Divi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6" descr="Screen shot 2011-05-02 at 1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9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Professional Develo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4311720"/>
            <a:ext cx="4343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teracy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Leadership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Without Limit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teracy Strategies in A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re Reading Strategies in A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609480" y="1295280"/>
            <a:ext cx="4343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 Modules: Available on KET Teachers’ Domai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ing Education in Kentucky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ing Scale City to Teach Proportional Reasoning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ket.org/encyclomedia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92" name="Picture 10" descr="lwl3"/>
          <p:cNvPicPr/>
          <p:nvPr/>
        </p:nvPicPr>
        <p:blipFill>
          <a:blip r:embed="rId1"/>
          <a:stretch/>
        </p:blipFill>
        <p:spPr>
          <a:xfrm>
            <a:off x="5029200" y="5226120"/>
            <a:ext cx="1981080" cy="793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logo_morereadingstrategies"/>
          <p:cNvPicPr/>
          <p:nvPr/>
        </p:nvPicPr>
        <p:blipFill>
          <a:blip r:embed="rId2"/>
          <a:stretch/>
        </p:blipFill>
        <p:spPr>
          <a:xfrm>
            <a:off x="7086600" y="5226120"/>
            <a:ext cx="182880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logo_litstrategies"/>
          <p:cNvPicPr/>
          <p:nvPr/>
        </p:nvPicPr>
        <p:blipFill>
          <a:blip r:embed="rId3"/>
          <a:stretch/>
        </p:blipFill>
        <p:spPr>
          <a:xfrm>
            <a:off x="7086600" y="4235400"/>
            <a:ext cx="1981080" cy="814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Screen shot 2011-05-01 at 11"/>
          <p:cNvPicPr/>
          <p:nvPr/>
        </p:nvPicPr>
        <p:blipFill>
          <a:blip r:embed="rId4"/>
          <a:stretch/>
        </p:blipFill>
        <p:spPr>
          <a:xfrm>
            <a:off x="4876920" y="1143000"/>
            <a:ext cx="3733560" cy="2941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Screen shot 2011-05-03 at 4"/>
          <p:cNvPicPr/>
          <p:nvPr/>
        </p:nvPicPr>
        <p:blipFill>
          <a:blip r:embed="rId5"/>
          <a:stretch/>
        </p:blipFill>
        <p:spPr>
          <a:xfrm>
            <a:off x="5029200" y="4235400"/>
            <a:ext cx="1981080" cy="8380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15"/>
          <p:cNvSpPr/>
          <p:nvPr/>
        </p:nvSpPr>
        <p:spPr>
          <a:xfrm>
            <a:off x="304920" y="63086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</a:rPr>
              <a:t>Coming Soon: A Literacy Collection on KET Teachers’ Domai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chool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4800600" y="1295280"/>
            <a:ext cx="4343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Lab Worksho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deo Proj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media PD Ev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Workshop/Trainin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Education Blo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sits/Consultation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KY Blockfeed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0" name="Picture 5" descr="edconmap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1989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7"/>
          <p:cNvSpPr/>
          <p:nvPr/>
        </p:nvSpPr>
        <p:spPr>
          <a:xfrm>
            <a:off x="152280" y="3886200"/>
            <a:ext cx="464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ucation Consultan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www.ket.org/contact/education.htm </a:t>
            </a:r>
            <a:endParaRPr b="0" lang="en-US" sz="2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T Media Lab Workshop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generous grant from AT&amp;T, KET now off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shops for educators, students, and community organizations in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Media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KET Network Center in Lexington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s offered inclu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screen Effects for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Resources for Edu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hop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It Yourself Electronic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Stop-Motion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Virtual Art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RTboard with KET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ore information, vis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ket.org/education/medialab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6" descr="mlab_cwarner1.jpg"/>
          <p:cNvPicPr/>
          <p:nvPr/>
        </p:nvPicPr>
        <p:blipFill>
          <a:blip r:embed="rId1"/>
          <a:stretch/>
        </p:blipFill>
        <p:spPr>
          <a:xfrm>
            <a:off x="5407200" y="1676520"/>
            <a:ext cx="3279600" cy="2128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Screen shot 2011-05-02 at 2"/>
          <p:cNvPicPr/>
          <p:nvPr/>
        </p:nvPicPr>
        <p:blipFill>
          <a:blip r:embed="rId2"/>
          <a:stretch/>
        </p:blipFill>
        <p:spPr>
          <a:xfrm>
            <a:off x="5181480" y="4191120"/>
            <a:ext cx="3778200" cy="23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7" name="TextBox 5" descr=""/>
          <p:cNvPicPr/>
          <p:nvPr/>
        </p:nvPicPr>
        <p:blipFill>
          <a:blip r:embed="rId1"/>
          <a:stretch/>
        </p:blipFill>
        <p:spPr>
          <a:xfrm>
            <a:off x="30240" y="6126120"/>
            <a:ext cx="4389480" cy="579600"/>
          </a:xfrm>
          <a:prstGeom prst="rect">
            <a:avLst/>
          </a:prstGeom>
          <a:ln w="0">
            <a:noFill/>
          </a:ln>
        </p:spPr>
      </p:pic>
      <p:sp>
        <p:nvSpPr>
          <p:cNvPr id="308" name="Action Button: Custom 8"/>
          <p:cNvSpPr/>
          <p:nvPr/>
        </p:nvSpPr>
        <p:spPr>
          <a:xfrm>
            <a:off x="76320" y="61722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2"/>
          <p:cNvSpPr/>
          <p:nvPr/>
        </p:nvSpPr>
        <p:spPr>
          <a:xfrm>
            <a:off x="732240" y="84240"/>
            <a:ext cx="75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KET Discovery Education</a:t>
            </a:r>
            <a:endParaRPr b="0" lang="en-US" sz="4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Curved Down Arrow 13"/>
          <p:cNvSpPr/>
          <p:nvPr/>
        </p:nvSpPr>
        <p:spPr>
          <a:xfrm>
            <a:off x="7620120" y="617220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Curved Down Arrow 14"/>
          <p:cNvSpPr/>
          <p:nvPr/>
        </p:nvSpPr>
        <p:spPr>
          <a:xfrm rot="10800000">
            <a:off x="7772400" y="640044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Action Button: Custom 15"/>
          <p:cNvSpPr/>
          <p:nvPr/>
        </p:nvSpPr>
        <p:spPr>
          <a:xfrm>
            <a:off x="746748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51920" y="19807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about the new KET EncycloMedia,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ow a three pronged media power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xplore KET’s latest specialized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aware of KET’s other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educator resources and serv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ook at how these resources c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be integrated into your instruc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228600" y="222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KET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5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380880" y="990720"/>
            <a:ext cx="1824120" cy="96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485120" y="4879800"/>
            <a:ext cx="1523880" cy="174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Effective Use Of Video Learning Objects in Your Classroo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boy at aquarium.jpg"/>
          <p:cNvPicPr/>
          <p:nvPr/>
        </p:nvPicPr>
        <p:blipFill>
          <a:blip r:embed="rId1"/>
          <a:stretch/>
        </p:blipFill>
        <p:spPr>
          <a:xfrm>
            <a:off x="2438280" y="3200400"/>
            <a:ext cx="4191120" cy="31114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514600" y="58672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y Watching Sharks in Aquar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  Corbis, 2011. Im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February 2011. &lt;http://www.discoveryeducation.com/&gt;. 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 Proces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ew activity to introduc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cu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-up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76240" y="1371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 and for what they are responsi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338640" y="15228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rame</a:t>
            </a:r>
            <a:endParaRPr b="0" lang="en-US" sz="6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7" name="Picture 3" descr="C:\Documents and Settings\larry.moore.KET\Local Settings\Temporary Internet Files\Content.IE5\L9NC444U\MP900407401[1].jpg"/>
          <p:cNvPicPr/>
          <p:nvPr/>
        </p:nvPicPr>
        <p:blipFill>
          <a:blip r:embed="rId1"/>
          <a:stretch/>
        </p:blipFill>
        <p:spPr>
          <a:xfrm>
            <a:off x="6400800" y="3581280"/>
            <a:ext cx="236232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cu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 and point out important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, etc. 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larry.moore.KET\Local Settings\Temporary Internet Files\Content.IE5\L9NC444U\MP900438755[1].jpg"/>
          <p:cNvPicPr/>
          <p:nvPr/>
        </p:nvPicPr>
        <p:blipFill>
          <a:blip r:embed="rId1"/>
          <a:stretch/>
        </p:blipFill>
        <p:spPr>
          <a:xfrm>
            <a:off x="6400800" y="4572000"/>
            <a:ext cx="25621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llow-up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9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the media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ther modalities throug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inesthetic and immers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girl with camera Flickr chrissschuepp.jpg"/>
          <p:cNvPicPr/>
          <p:nvPr/>
        </p:nvPicPr>
        <p:blipFill>
          <a:blip r:embed="rId1"/>
          <a:stretch/>
        </p:blipFill>
        <p:spPr>
          <a:xfrm>
            <a:off x="6302520" y="1143000"/>
            <a:ext cx="2679480" cy="1981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257160" y="312408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ickrCreativeCommons by chrisschuepp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216" name="Action Button: Custom 8">
            <a:hlinkClick r:id="rId2"/>
          </p:cNvPr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ction Button: Custom 5">
            <a:hlinkClick r:id="rId3"/>
          </p:cNvPr>
          <p:cNvSpPr/>
          <p:nvPr/>
        </p:nvSpPr>
        <p:spPr>
          <a:xfrm>
            <a:off x="1600200" y="6019920"/>
            <a:ext cx="6477120" cy="838080"/>
          </a:xfrm>
          <a:custGeom>
            <a:avLst/>
            <a:gdLst>
              <a:gd name="textAreaLeft" fmla="*/ 54000 w 6477120"/>
              <a:gd name="textAreaRight" fmla="*/ 6423120 w 64771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6874" h="21600">
                <a:moveTo>
                  <a:pt x="0" y="0"/>
                </a:moveTo>
                <a:lnTo>
                  <a:pt x="166874" y="0"/>
                </a:lnTo>
                <a:lnTo>
                  <a:pt x="166874" y="21600"/>
                </a:lnTo>
                <a:lnTo>
                  <a:pt x="0" y="21600"/>
                </a:lnTo>
                <a:close/>
              </a:path>
              <a:path fill="lightenLess" w="166874" h="21600">
                <a:moveTo>
                  <a:pt x="0" y="0"/>
                </a:moveTo>
                <a:lnTo>
                  <a:pt x="166874" y="0"/>
                </a:lnTo>
                <a:lnTo>
                  <a:pt x="165474" y="1400"/>
                </a:lnTo>
                <a:lnTo>
                  <a:pt x="1400" y="1400"/>
                </a:lnTo>
                <a:close/>
              </a:path>
              <a:path fill="darken" w="166874" h="21600">
                <a:moveTo>
                  <a:pt x="166874" y="0"/>
                </a:moveTo>
                <a:lnTo>
                  <a:pt x="166874" y="21600"/>
                </a:lnTo>
                <a:lnTo>
                  <a:pt x="165474" y="20200"/>
                </a:lnTo>
                <a:lnTo>
                  <a:pt x="165474" y="1400"/>
                </a:lnTo>
                <a:close/>
              </a:path>
              <a:path fill="darkenLess" w="166874" h="21600">
                <a:moveTo>
                  <a:pt x="1668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5474" y="20200"/>
                </a:lnTo>
                <a:close/>
              </a:path>
              <a:path fill="lighten" w="1668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1-08-31T14:18:11Z</dcterms:modified>
  <cp:revision>501</cp:revision>
  <dc:subject/>
  <dc:title>Slide 1</dc:title>
</cp:coreProperties>
</file>